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089-B17E-4607-B373-45800A23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C82-EEF3-4C78-AB55-EE36DA27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2CB-1651-4501-A575-722D1882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122-3466-4519-B9A1-0F094BE9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F88-AFC7-4265-B71E-B2413646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A09-FC52-480A-AC4B-FC09F530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02E-741F-4C36-A8DA-C687B11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9DE-B4EA-4B5E-9BA0-39EA177D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541-E701-4F9A-AB43-09C412B0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9BE-C8EF-4CCB-A4CB-792D101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3D7-D103-4300-9651-9DB0912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EF7-C443-4B2C-A419-89F3F82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FE9-4C61-4C41-B553-36A20BE29579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20F-2BE4-4B0F-9C74-F752BA7DAEA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36640" y="3139920"/>
            <a:ext cx="568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8  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粗盐中难溶性杂质的去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一单元 盐 化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9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3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69800" y="111456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的小组过滤后滤液浑浊的可能原因有哪些？他们应如何进行下步操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69800" y="2703240"/>
            <a:ext cx="81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过滤后滤液浑浊的原因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过滤时滤纸破损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倾倒液体时，液面超过滤纸边缘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应对措施：重新过滤一次。若仍然浑浊，则检查并更换过滤器，重新实验。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4000" y="2556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900000" y="16257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验目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936720" y="2575440"/>
            <a:ext cx="795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验固体混合物初步提纯的实验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936720" y="336564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蒸发操作技能，巩固溶解、过滤操作技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24000" y="1763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55480" y="125100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用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693720" y="29484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烧杯、玻璃棒、蒸发皿、坩埚钳、酒精灯、漏斗、钥匙、量筒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铁架台（带铁圈）、托盘天平、滤纸、火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粗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755640" y="692280"/>
            <a:ext cx="266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步骤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6"/>
          <p:cNvSpPr/>
          <p:nvPr/>
        </p:nvSpPr>
        <p:spPr>
          <a:xfrm>
            <a:off x="936720" y="1341720"/>
            <a:ext cx="795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组实验：分工协作，分步操作，记录现象及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971640" y="2060640"/>
            <a:ext cx="13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1008000" y="2781360"/>
            <a:ext cx="493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托盘天平称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 g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粗盐，用药匙将该粗盐逐渐加入盛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水的烧杯里，边加边用玻璃棒搅拌，直加到粗盐不再溶解为止。观察所得食盐水是否浑浊。称量剩下的粗盐，计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 mL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水中约溶解了多少克粗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42920" y="5446800"/>
          <a:ext cx="7705800" cy="91440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860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称取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剩余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溶解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．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3" descr="1"/>
          <p:cNvPicPr/>
          <p:nvPr/>
        </p:nvPicPr>
        <p:blipFill>
          <a:blip r:embed="rId1"/>
          <a:srcRect l="0" t="0" r="-31" b="-27"/>
          <a:stretch/>
        </p:blipFill>
        <p:spPr>
          <a:xfrm>
            <a:off x="6369120" y="2462040"/>
            <a:ext cx="2306520" cy="2119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6588000" y="4724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玻璃棒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搅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加速溶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36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86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6"/>
          <p:cNvSpPr/>
          <p:nvPr/>
        </p:nvSpPr>
        <p:spPr>
          <a:xfrm>
            <a:off x="2070000" y="35607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6"/>
          <p:cNvSpPr/>
          <p:nvPr/>
        </p:nvSpPr>
        <p:spPr>
          <a:xfrm>
            <a:off x="720720" y="76572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示：一贴、二低、三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7"/>
          <p:cNvSpPr/>
          <p:nvPr/>
        </p:nvSpPr>
        <p:spPr>
          <a:xfrm>
            <a:off x="720720" y="179928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仔细观察滤纸上剩余物及滤液的颜色，如滤液仍浑浊，应再过滤一次。如果两次过滤后滤液仍浑浊，应如何检查实验装置并找出原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1" descr="c:\users\administrator\appdata\roaming\360se6\User Data\temp\t0115574764f4127368.jpg"/>
          <p:cNvPicPr/>
          <p:nvPr/>
        </p:nvPicPr>
        <p:blipFill>
          <a:blip r:embed="rId1"/>
          <a:stretch/>
        </p:blipFill>
        <p:spPr>
          <a:xfrm>
            <a:off x="5068800" y="4078440"/>
            <a:ext cx="1330560" cy="2060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3"/>
          <p:cNvSpPr/>
          <p:nvPr/>
        </p:nvSpPr>
        <p:spPr>
          <a:xfrm>
            <a:off x="1152360" y="2854440"/>
            <a:ext cx="3265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一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二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三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6"/>
          <p:cNvSpPr/>
          <p:nvPr/>
        </p:nvSpPr>
        <p:spPr>
          <a:xfrm>
            <a:off x="2052720" y="2854440"/>
            <a:ext cx="6264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纸紧贴漏斗内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纸低于漏斗边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滤液低于滤纸边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烧杯紧靠玻璃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玻璃棒紧靠三层滤纸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漏斗长端紧靠烧杯内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7"/>
          <p:cNvSpPr/>
          <p:nvPr/>
        </p:nvSpPr>
        <p:spPr>
          <a:xfrm>
            <a:off x="6588000" y="521352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玻璃棒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引流，防止液体飞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6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6"/>
          <p:cNvSpPr/>
          <p:nvPr/>
        </p:nvSpPr>
        <p:spPr>
          <a:xfrm>
            <a:off x="2143080" y="305604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8"/>
          <p:cNvSpPr/>
          <p:nvPr/>
        </p:nvSpPr>
        <p:spPr>
          <a:xfrm>
            <a:off x="722160" y="636120"/>
            <a:ext cx="76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蒸发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蒸发结晶：蒸发溶剂，食盐以晶体的形式析出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9"/>
          <p:cNvSpPr/>
          <p:nvPr/>
        </p:nvSpPr>
        <p:spPr>
          <a:xfrm>
            <a:off x="649440" y="112464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7d31"/>
                </a:solidFill>
                <a:latin typeface="Times New Roman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把所得澄清滤液倒入蒸发皿，用酒精灯加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92360" y="1941480"/>
            <a:ext cx="52578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蒸发皿放在铁圈上，用酒精灯加热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蒸发皿里的液体以不超过蒸发皿容积的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为宜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加热时用玻璃棒不停的搅拌，防止局部温度过高，造成液滴飞溅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当蒸发 皿中出现较多量的固体时，即停止加热 ，利用蒸发皿的余热使滤液蒸干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pic_28633"/>
          <p:cNvPicPr/>
          <p:nvPr/>
        </p:nvPicPr>
        <p:blipFill>
          <a:blip r:embed="rId1"/>
          <a:stretch/>
        </p:blipFill>
        <p:spPr>
          <a:xfrm>
            <a:off x="1189080" y="1990800"/>
            <a:ext cx="2028960" cy="2768400"/>
          </a:xfrm>
          <a:prstGeom prst="rect">
            <a:avLst/>
          </a:prstGeom>
          <a:ln w="0">
            <a:noFill/>
          </a:ln>
        </p:spPr>
      </p:pic>
      <p:sp>
        <p:nvSpPr>
          <p:cNvPr id="95" name="矩形 13"/>
          <p:cNvSpPr/>
          <p:nvPr/>
        </p:nvSpPr>
        <p:spPr>
          <a:xfrm>
            <a:off x="973080" y="5518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停止加热后，不要把蒸发皿立即放在桌上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用坩埚钳夹住放到石棉网上面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49440" y="1143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产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93800" y="1935000"/>
            <a:ext cx="79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玻璃棒把固体转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纸上，称量后，回收到教师指定的容器中。将提纯后的氯化钠与粗盐作比较，并计算精盐的产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7440" y="3240000"/>
          <a:ext cx="7632720" cy="914400"/>
        </p:xfrm>
        <a:graphic>
          <a:graphicData uri="http://schemas.openxmlformats.org/drawingml/2006/table">
            <a:tbl>
              <a:tblPr/>
              <a:tblGrid>
                <a:gridCol w="2544840"/>
                <a:gridCol w="2544840"/>
                <a:gridCol w="2543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溶解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粗盐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精盐产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/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微软雅黑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40"/>
                            </p:stCondLst>
                            <p:childTnLst>
                              <p:par>
                                <p:cTn id="1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792000" y="1268280"/>
            <a:ext cx="31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问题交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0"/>
          <p:cNvSpPr/>
          <p:nvPr/>
        </p:nvSpPr>
        <p:spPr>
          <a:xfrm>
            <a:off x="900000" y="227664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能否采用降低溶液温度的方法使盐溶液浓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900000" y="31417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能，因为氯化钠的溶解度受温度影响不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98520" y="2405880"/>
            <a:ext cx="83167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造成产率过高的可能原因：滤纸有破损或滤液液面高于滤纸边缘；量取水时仰视量筒读数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98520" y="3914640"/>
            <a:ext cx="8388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造成产率降低的可能原因：溶解搅拌时液滴溅出；溶解时加入的粗盐过多，未完全溶解；过滤时，液体洒出或未洗涤玻璃棒、烧杯而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C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损失；蒸发时没有及时搅拌或停止加热太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造成液滴飞溅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434880" y="822960"/>
            <a:ext cx="8317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有的小组得出的精盐产率大于理论值，有的小组得出的精盐产率小于理论值，他们造成这些情况的可能原因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1:34:16Z</dcterms:modified>
  <cp:revision>3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